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0FB2-41AF-48B1-BF68-6F6338F2B5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C7B0-1F32-4483-801C-C5F676BEED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3028-5A57-432A-A743-75BB3FD4FE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698-C529-4DFF-838F-F91DF5A6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D16-D3E5-4F23-AD25-975193DE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BCD-A271-4DFB-A619-21643198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733-6652-48FD-AF6C-870F3E17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99E6-AA81-4B24-9178-3A01633A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BDBB-5BCC-4C9B-B8B6-CB155647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F28-2C53-4466-A34D-00AF9BD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5761-B1E6-4372-A827-3489D2B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5788-3D3B-4256-8A89-F05096F4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B96E-A517-4331-AD21-4D641D14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59E8-0576-463E-AF45-F7EF715E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7C6-78BD-4FB0-9C20-8EC68DF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5802-FD5B-459A-93BE-A638129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13D3-D723-439B-97B1-679E87C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53B7-68E6-4290-8895-1EB4321C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B43-2606-47CA-A47C-2797B3A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B7E9-2FB2-41E3-9666-D9EECF08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047E-A779-4AB5-91FF-4DCA64D4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B16B-EAF0-4BB3-88CA-F94DAE6B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2650-5FB1-431D-84BC-A91EFE3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2045-8F69-484B-B340-38D7C8C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3AAC-5B31-4697-BD36-D7604C6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080-ED65-4D21-B0CC-59B8277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9289-469B-4A49-89AA-D4E1362F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4E8D-EB12-4540-A0B9-D67CAE4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B3A9-A2DA-4EE6-B9E9-564D513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06DB-A582-44E6-AA5D-532D4D95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32DC-062C-4064-8A3B-E641E17B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E1E3-F2BB-4626-9FBB-BE0F5508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C936-B6A8-4A93-9704-B93EFFDB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3A21-FAA8-4959-B0D3-1095B0C6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FC4F-701E-4081-8BFC-B1DD38F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56FB-74B8-4A48-94D8-6E47650F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342-EE66-4E47-80C5-7E04ABE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0671-E578-4716-9393-7B9AB45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A8A6-BB74-40CA-875A-C395130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773C-2155-4BD6-BE27-D3367E4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274E-C53D-42B1-BA5E-15BDB87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1B5B-537A-4AC7-9588-D7324861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D3C8-90BC-4001-8FCC-1D90500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393C-0BA4-4D04-AE0E-CBD71CE2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5C93-9914-48B9-9F87-64146B7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C6DB-7243-450E-88EC-6D05A902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3AAF-34DA-49A8-8D33-91EAC99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FC4-94F8-4D6F-B3F5-817626E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C886-6110-4430-8C5E-DECFAC8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EED3-90AD-4DB6-A6D9-B46EAE1C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3708-0F9F-447C-A2D0-21CD6493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BF29-4A7C-416F-B297-139B6DBD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089D-6755-4A45-8CE7-9D2079AE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3B31-EF80-4530-AA5B-6B637A6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0CFB-22F6-4D81-A236-C3CD399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95B7-0283-42CF-AAF8-342277B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8621-7B58-46DB-8D06-542E971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11F7-FA77-498F-B3C9-7CD54949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578-9ABB-42B8-95E9-3D3A398B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3109-229B-4669-A1A7-1450B240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9685-D6B1-48C4-9BC3-279D05D1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CEDC-15E7-4425-A24E-02F8E2A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0A35-B588-4752-B19F-E1FA7D1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3C64-10CE-4BA1-AB23-CEC68F7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39EF-A98D-41D6-85F2-E7178C33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30EB-0EB6-4045-930F-933924F4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997D-9378-410A-9D7E-8533FDD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780CE-F468-4CC1-A69E-B6F6B17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B959-9CBE-402B-A674-A436E3F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BF6-781D-4031-BE01-1407BA1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EFBE-306C-4E92-B97D-6BBE6D4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C392-8044-4A53-A219-CBEE0618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B665-A068-4C69-9C84-40137B56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B12-1BA1-41F1-93CC-C1D3CCD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F91-A79C-46E5-92EB-0B78351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6784-9F95-4E08-B563-9775BE74662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6421-B00F-49DB-AF04-1F0219E199F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1F2-724A-4A15-A6F9-B854B7453BE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E96-7261-4472-B6C9-11A7E170D5A3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FD4F-DA3B-43BA-81AA-5FA5FF4F281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5EBB-9C6D-4EE9-914D-3CAB5CF976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3533-DA3E-4198-ACF5-BA9F2EE1025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DA1-D556-4FC5-9EB4-D9D0037A4F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0479-F260-4A30-9247-296320E7C7E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DAE-7AEF-4910-8E7E-11FBE69BA4F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77DB-390B-40D1-9FCE-564D6DD2730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F23B-D961-450A-A1FE-1C4A79FD59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Outubr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nov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150596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44908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92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-28440" y="1685880"/>
            <a:ext cx="121917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916280"/>
            <a:ext cx="121921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1921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12-04T14:13:02Z</dcterms:modified>
  <cp:revision>444</cp:revision>
  <dc:subject/>
  <dc:title>Demografia</dc:title>
</cp:coreProperties>
</file>